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6FB-9245-4F35-B8F4-8EE2D60A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96B-A0B8-4E00-AD18-2E22A4F7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4F6-192C-41AF-9E68-5BFEA73D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75F-3E1D-4C23-B148-89B087A0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C3A0-E602-4A49-AE8C-DE7A677E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35A2-5266-4AC3-BDB3-2CBCABBF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49AD-943F-49A3-8497-EB5A302F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4CC2-E797-4DF1-B38B-DC16CFB2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4B99-08C2-402A-A0A9-35909369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C4FE-C42B-4DD2-A0E3-A8E1834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5047-EBEB-44B6-A9CF-37B34A52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F41-EA8C-4FE2-8BC1-8089D072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D5A5-A734-4BAB-923E-9F82B1F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2619-008C-4EBA-AC78-160D562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47AB-3A0A-4A9E-BC58-561447E8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9FF2-14B1-4136-907A-43FCC755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AFAF-858F-418C-BDF5-52EFA5D2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A7C-6D6D-47CE-8B57-6EC4E881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125-1624-46A9-B576-9B01DCC3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89F-F689-4618-8D19-6FBEFD47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48C-2B83-48C2-B969-095B49C9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60B-806F-4B46-B1C2-CBE2CED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924-A43F-4D74-B094-E070D746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D41-A4BD-425D-BBE5-EDC5ACF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2C58-9CC5-42AB-9EF5-5696E91C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0849-CA3C-4871-AF82-9D3A5B24F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tion is a Theory – Just like Gravity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heory in science is a well tested hypothesis, not just a gu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evolution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ow did tortoises and birds differ among the islands of the Galapago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00800" y="2133720"/>
            <a:ext cx="274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island had its own type of tortoises and birds that were clearly different from other 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darwin_finches"/>
          <p:cNvPicPr/>
          <p:nvPr/>
        </p:nvPicPr>
        <p:blipFill>
          <a:blip r:embed="rId1"/>
          <a:stretch/>
        </p:blipFill>
        <p:spPr>
          <a:xfrm>
            <a:off x="0" y="1940040"/>
            <a:ext cx="63244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lapagos                      Turt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big%20turtle"/>
          <p:cNvPicPr/>
          <p:nvPr/>
        </p:nvPicPr>
        <p:blipFill>
          <a:blip r:embed="rId1"/>
          <a:stretch/>
        </p:blipFill>
        <p:spPr>
          <a:xfrm>
            <a:off x="0" y="1960560"/>
            <a:ext cx="5181480" cy="489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ome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25-35"/>
          <p:cNvPicPr/>
          <p:nvPr/>
        </p:nvPicPr>
        <p:blipFill>
          <a:blip r:embed="rId3"/>
          <a:stretch/>
        </p:blipFill>
        <p:spPr>
          <a:xfrm>
            <a:off x="5257800" y="3981600"/>
            <a:ext cx="38862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Selection and Species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time, natural selection results in changes in the inherited characteristics of a popul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changes increase a species fitness (survival 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5" descr="misconceptions_beav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image009"/>
          <p:cNvPicPr/>
          <p:nvPr/>
        </p:nvPicPr>
        <p:blipFill>
          <a:blip r:embed="rId1"/>
          <a:stretch/>
        </p:blipFill>
        <p:spPr>
          <a:xfrm>
            <a:off x="40384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cent with Modificat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12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living species has descended with changes from other species over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Evolution is when organisms change over time. So, modern organisms descended from ancient one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9" descr="evolution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ural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le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raits that help an organism survive in a particular environment are “selected” in 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5" descr="nat-sel"/>
          <p:cNvPicPr/>
          <p:nvPr/>
        </p:nvPicPr>
        <p:blipFill>
          <a:blip r:embed="rId1"/>
          <a:stretch/>
        </p:blipFill>
        <p:spPr>
          <a:xfrm>
            <a:off x="4114800" y="1943280"/>
            <a:ext cx="5029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8:55:47Z</dcterms:created>
  <dc:creator>Defiant</dc:creator>
  <dc:description/>
  <dc:language>en-US</dc:language>
  <cp:lastModifiedBy>Daniel Ramalho</cp:lastModifiedBy>
  <dcterms:modified xsi:type="dcterms:W3CDTF">2011-11-17T02:48:57Z</dcterms:modified>
  <cp:revision>34</cp:revision>
  <dc:subject/>
  <dc:title>Chapter 15 </dc:title>
</cp:coreProperties>
</file>